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F2F-2139-4710-B1D5-E881DEE7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1FE-AB13-4D0D-A8F4-33EDCAF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177-4484-41BB-BD40-72A90473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2CF-FB3F-45FF-93A9-78834A11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15A78-162E-429B-9843-1C6D024A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78A59-29D6-4656-9BA1-EF30DDA4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718E5-C564-44DD-8E58-1D7D5E40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06933-03CF-4C78-A3E0-947BAA1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F088A-FC07-4864-B860-6B03C9B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FC546-E7A4-4B9F-B797-DCFC78E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0C39F-F6D0-46A5-8ABF-B7DD53C9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E5D-95DE-491B-A696-7AC7D51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2063C-8876-4794-A990-63FC615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AB8DC-F06C-44D6-BE84-C019959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B0940-2BA1-4E7B-BD5A-93FB3632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DD755-17DF-47E8-9F4E-76F966BD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2A007-1A4E-48CE-87E1-002182DE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6F1A-A26F-4A80-8744-138D3B9C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CCBF-C2C6-4DA7-8AF4-DE3C28C1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E269-64A2-4E09-9745-A1F6D8C9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EB6D-9B20-4A03-8E55-6DC78ABA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EE3F-7C46-429C-A754-BBC5D9B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8D2-94B5-4788-BA3F-B4D7024C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3337-65EC-4D0A-8087-F8F98A3E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2AD12-0080-4242-BAF5-CEF8ED5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8C30-1670-4852-89B3-C75D5534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1D39-EF0B-4508-B3EF-763332DC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0982-CADA-42BA-9BCE-259B41F5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8279-4B51-4479-B4A4-B8202F1D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57D8-45C9-4F9C-94C5-A695A1E9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C61-F251-49DE-A2A0-E7C89EB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C8F-0C52-4E6A-B1F5-8FBCB4DF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D54-58C6-4E65-993E-36E35D26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0D2-9FC5-47A1-9CC2-C5E19D22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3B8-F0C1-4A90-89D1-6D22660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BC2-4DCB-4B7B-9F92-07DCEC4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4DEE-CD12-4B04-86AC-968985C9A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4"/>
          <p:cNvSpPr/>
          <p:nvPr/>
        </p:nvSpPr>
        <p:spPr>
          <a:xfrm>
            <a:off x="903240" y="-247680"/>
            <a:ext cx="5751720" cy="2019240"/>
          </a:xfrm>
          <a:prstGeom prst="rect">
            <a:avLst/>
          </a:prstGeom>
          <a:solidFill>
            <a:srgbClr val="dac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4861080" y="63468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eade"/>
                </a:solidFill>
                <a:latin typeface="Calibri"/>
              </a:rPr>
              <a:t>presentation-creatio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 rot="5400000">
            <a:off x="11142360" y="890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Calibri"/>
              </a:rPr>
              <a:t>presentation-creatio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>
            <a:off x="504720" y="231840"/>
            <a:ext cx="0" cy="2836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325440" y="484200"/>
            <a:ext cx="30909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7"/>
          <p:cNvSpPr/>
          <p:nvPr/>
        </p:nvSpPr>
        <p:spPr>
          <a:xfrm>
            <a:off x="11661840" y="231840"/>
            <a:ext cx="0" cy="2836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8834400" y="484200"/>
            <a:ext cx="30891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795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795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795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90E2-1D34-4F61-8014-F234D817C5E3}" type="slidenum">
              <a:rPr b="0" lang="ru-RU" sz="1200" spc="-1" strike="noStrike">
                <a:solidFill>
                  <a:srgbClr val="88795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ade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ade"/>
                </a:solidFill>
                <a:latin typeface="Calibri"/>
              </a:rPr>
              <a:t>presentation-creatio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10"/>
          <p:cNvSpPr/>
          <p:nvPr/>
        </p:nvSpPr>
        <p:spPr>
          <a:xfrm>
            <a:off x="504720" y="360360"/>
            <a:ext cx="0" cy="1123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325440" y="468360"/>
            <a:ext cx="116676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>
            <a:off x="11769840" y="5219640"/>
            <a:ext cx="0" cy="1125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3"/>
          <p:cNvSpPr/>
          <p:nvPr/>
        </p:nvSpPr>
        <p:spPr>
          <a:xfrm>
            <a:off x="10771200" y="6257880"/>
            <a:ext cx="11653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4"/>
          <p:cNvSpPr/>
          <p:nvPr/>
        </p:nvSpPr>
        <p:spPr>
          <a:xfrm>
            <a:off x="11769840" y="360360"/>
            <a:ext cx="0" cy="1123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5"/>
          <p:cNvSpPr/>
          <p:nvPr/>
        </p:nvSpPr>
        <p:spPr>
          <a:xfrm>
            <a:off x="10771200" y="466560"/>
            <a:ext cx="11653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6"/>
          <p:cNvSpPr/>
          <p:nvPr/>
        </p:nvSpPr>
        <p:spPr>
          <a:xfrm>
            <a:off x="325440" y="6257880"/>
            <a:ext cx="116676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503280" y="5219640"/>
            <a:ext cx="0" cy="1125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8EA3-DF6A-4E31-B470-8B4F90F9BE8C}" type="slidenum">
              <a:rPr b="0" lang="ru-RU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7120" y="316080"/>
            <a:ext cx="10936440" cy="26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Формулы площади и периметра фигу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2" name="Picture 5" descr="Picture background"/>
          <p:cNvPicPr/>
          <p:nvPr/>
        </p:nvPicPr>
        <p:blipFill>
          <a:blip r:embed="rId1"/>
          <a:stretch/>
        </p:blipFill>
        <p:spPr>
          <a:xfrm>
            <a:off x="1081080" y="2744640"/>
            <a:ext cx="5037120" cy="3722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7331040" y="2644920"/>
            <a:ext cx="397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Ученица 5А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бузина Светл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шукова Татья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ЯТ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Подготовить выводы о значении изучения формул площади и периметра в повседневной жизни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рименение в дизайне интерь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планировка простра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ределение функциональных 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выбор мебели и дек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тимизация осве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расчёт отделочны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создание визуального бал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учёт строительных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7680240" y="2959200"/>
            <a:ext cx="3708360" cy="270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, можно сказать, что изучение формул площади и периметра различных фигур имеет не только теоретическое, но и практическое значение. Эти знания формируют основу для дальнейшего изучения геометрии и математики в целом, а также развивают критическое мышление и практические навыки уча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анное исследование подчеркивает значимость математического образования и его влияние на развитие практических навыков, что является необходимым для успешного обучения и подготовки к будущей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9"/>
          <p:cNvSpPr/>
          <p:nvPr/>
        </p:nvSpPr>
        <p:spPr>
          <a:xfrm>
            <a:off x="2401920" y="2157480"/>
            <a:ext cx="7226280" cy="1150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27422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7120" y="316080"/>
            <a:ext cx="10936440" cy="26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Формулы площади и периметра фигу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5" name="Picture 5" descr="Picture background"/>
          <p:cNvPicPr/>
          <p:nvPr/>
        </p:nvPicPr>
        <p:blipFill>
          <a:blip r:embed="rId1"/>
          <a:stretch/>
        </p:blipFill>
        <p:spPr>
          <a:xfrm>
            <a:off x="1081080" y="2744640"/>
            <a:ext cx="5037120" cy="3722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331040" y="2644920"/>
            <a:ext cx="397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Ученица 5А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бузина Светл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шукова Татья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АКТУАЛЬНОСТЬ ТЕМЫ ИССЛЕДОВАН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временном мире математика играет ключевую роль в различных областях человеческой деятельности, включая архитектуру, дизайн, инженерное дело и повседневную жизнь. Умение правильно рассчитывать площадь и периметр позволяет оптимизировать использование материалов и пространства, что особенно актуально в условиях ограничен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Picture background"/>
          <p:cNvPicPr/>
          <p:nvPr/>
        </p:nvPicPr>
        <p:blipFill>
          <a:blip r:embed="rId1"/>
          <a:stretch/>
        </p:blipFill>
        <p:spPr>
          <a:xfrm>
            <a:off x="7746840" y="4356000"/>
            <a:ext cx="3864240" cy="22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864720"/>
            <a:ext cx="10515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Объект исследования 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-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MS Mincho"/>
              </a:rPr>
              <a:t> геометрические фигуры, такие как квадрат, прямоугольник, треугольник, параллелограмм, трапеция, ромб, окружность и круг, а также формулы, используемые для расчета их площади и перимет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Предмет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 - 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MS Mincho"/>
              </a:rPr>
              <a:t>формулы площади и периметра различных фигур, их вывод, применение и значение в практической деятельности, а также влияние на архитектурные и дизайнерские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  </a:t>
            </a: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Цель 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о формулах площади и периметра различных геометрических фигур, а также исследование их применения в архитектуре и диза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466040" y="4967280"/>
            <a:ext cx="3490920" cy="170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ЗАДАЧИ ИССЛЕД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ть и описать основные понятия, связанные с площадью и перимет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иск формул для расчета площади и периметра квадрата, прямоугольника, треугольника, параллелограмма, ромба, трапеции, окружности  и к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сравнительный анализ формул площади и периметра различных фиг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ссмотреть примеры применения этих формул в архитектурных и дизайнерских прое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готовить выводы о значении изучения формул площади и периметра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677520" y="5353200"/>
            <a:ext cx="2176200" cy="150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ЕРВ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и описать основные понятия, связанные с площадью и периметром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расчета площади и периметра геометрических фигур играют ключевую роль в математике и повседневной жизни. Они необходимы для решения множества практических задач, связанных с измерением и оценкой пространства, а также для более глубокого понимания геометрических концепц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имание основных геометрических по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ктическое приме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кономия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тие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готовка к более сложным математическим концепц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icture background"/>
          <p:cNvPicPr/>
          <p:nvPr/>
        </p:nvPicPr>
        <p:blipFill>
          <a:blip r:embed="rId1"/>
          <a:stretch/>
        </p:blipFill>
        <p:spPr>
          <a:xfrm>
            <a:off x="8935920" y="3846600"/>
            <a:ext cx="2651400" cy="167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335304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</a:t>
            </a: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ПОЛУЧЕННЫЕ ПРИ РЕШЕНИИ ВТОР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иск формул для расчета площади и периметра квадрата, прямоугольника, треугольника, параллелограмма, ромба, трапеции, окружности и круга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7" name="Picture 5" descr="Picture background"/>
          <p:cNvPicPr/>
          <p:nvPr/>
        </p:nvPicPr>
        <p:blipFill>
          <a:blip r:embed="rId1"/>
          <a:stretch/>
        </p:blipFill>
        <p:spPr>
          <a:xfrm>
            <a:off x="4603680" y="0"/>
            <a:ext cx="7588440" cy="682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ТРЕТЬЕ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сравнительный анализ формул площади и периметра различных фигур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новополагающая роль в мате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Широкое практическое приме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Экономия ресурсов и вр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Развитие аналитических навы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одготовка к более сложным концеп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Универсальность приме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48520" y="2712960"/>
            <a:ext cx="407340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ЧЕТВЕРТОЙ ЗАДАЧИ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Рассмотреть примеры применения этих формул в архитектурных и дизайнерских проектах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2" name="Picture 5" descr="Picture background"/>
          <p:cNvPicPr/>
          <p:nvPr/>
        </p:nvPicPr>
        <p:blipFill>
          <a:blip r:embed="rId1"/>
          <a:stretch/>
        </p:blipFill>
        <p:spPr>
          <a:xfrm>
            <a:off x="4791240" y="1496880"/>
            <a:ext cx="6819840" cy="51372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Picture background"/>
          <p:cNvPicPr/>
          <p:nvPr/>
        </p:nvPicPr>
        <p:blipFill>
          <a:blip r:embed="rId2"/>
          <a:stretch/>
        </p:blipFill>
        <p:spPr>
          <a:xfrm>
            <a:off x="698400" y="2066760"/>
            <a:ext cx="4456080" cy="479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ЯТ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ь выводы о значении изучения формул площади и периметра в повседневной жизни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рименение формул в архитектуре и диза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проектирование зд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тимизация простра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расчёт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энергоэффе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ландшафтный дизай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строительные нормы и станда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8029440" y="2876400"/>
            <a:ext cx="3608640" cy="292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04T08:17:15Z</dcterms:created>
  <dc:creator>User Obstinate</dc:creator>
  <dc:description/>
  <dc:language>en-US</dc:language>
  <cp:lastModifiedBy>User</cp:lastModifiedBy>
  <dcterms:modified xsi:type="dcterms:W3CDTF">2025-02-06T07:36:32Z</dcterms:modified>
  <cp:revision>54</cp:revision>
  <dc:subject/>
  <dc:title>Минимализм деловой, шаблон презентации с сайта presentation-creation.ru</dc:title>
</cp:coreProperties>
</file>